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018-A903-49C6-A897-53B4826B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6CE6-827D-4C93-AFE4-E04B408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740A-4758-415A-BA07-F938D83C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12C-85E6-48F2-8692-BBD7FB6C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9176-C558-4A83-8082-7971C55A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B539-9241-4F13-A57A-3A7A9EE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C29D-7943-4A3B-8560-875FB7E4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1E8C-86D6-42B6-BE55-281729F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F20C-8892-4508-9FBF-608D90C6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9864-174C-40D8-BC98-57FFE0E9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8E2-6C95-4BD6-9065-C152DC11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F450-809B-4629-985A-38C6B9E9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11A0-5874-4A3F-A499-5085B151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9121-6C32-4E12-BBA0-C2A233A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2992-589B-4F3D-8AD3-742F95BF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B81C-69C9-487A-A198-186C1512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03F1-D774-41AA-ACAD-68D5F12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EA2-06D3-432F-8536-35D3932C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8E9-B376-480D-AA65-12DC4B2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4F23-5D5F-43F1-9B18-FE8A23F4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C71-078D-458A-9C47-0BC8A07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CC5-6775-49D1-AB4B-D08080D8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88D-CB1B-451D-B7D7-7A16D421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DDE-E9FB-4ADC-A28F-9D7AA38B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96C-A6FE-40D8-8B03-610EAF697F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E434-0292-4349-BDB0-11CDA5C457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"/>
              </a:rPr>
              <a:t>«Собаки- верные друзья человека»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Автор: Сухарник Евгени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ученица 3 клас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МОУ «Карымкарская средняя общеобразовательная школа</a:t>
            </a:r>
            <a:r>
              <a:rPr b="1" lang="en-US" sz="3200" spc="-1" strike="noStrike">
                <a:solidFill>
                  <a:srgbClr val="0000ff"/>
                </a:solidFill>
                <a:latin typeface="Berlin Sans FB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eorgia"/>
              </a:rPr>
              <a:t>Содержание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Введение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Породы собак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Овчарк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Лайк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Дворняжк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lnSpc>
                <a:spcPct val="9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Роль собаки в жизни человек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07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12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17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22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2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3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Собака является верным спутником человека уже не одно тысячелетие. Однако у учёных до сих пор остаётся много вопросов поводу происхождения этого животного. Большинство специалистов кинологов склоняется к мнению, что предками современной собаки в первую очередь были волки, шакалы и койоты, на что указывает одинаковый набор хромосом, а также способность этих животных давать плодовитое потомство при межвидовом скрещиван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Garamond"/>
              </a:rPr>
              <a:t>Судя по археологическим раскопкам, одомашнивание диких псовых произошло в каменном веке, за 15-10 тыс. сет до нашей эры, когда люди добывали себе пропитание охотой и только что изобрели лук и стрел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Введение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16880" y="2651040"/>
            <a:ext cx="2427120" cy="4206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Человек своим умом, трудом, терпением, любовью и заботой из вчерашнего врага - Хищника создал первого друга. Это событие для развития человеческой цивилизации был не менее важен, чем постройка паровых машин или открытие электричеств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В зависимости от климатических условий, хозяйственных потребностей, особенностей национального вкуса и традиций каждый народ выводил свои породы собак. Современные кинологи предполагают, что выведение пород собак началось около 14тыс. лет назад в Китае, причём не только рабочих, но и декоративных. Одной из самых древнейших пород является африканская басенджи, изображению которой более 6 тыс л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0000"/>
                </a:solidFill>
                <a:latin typeface="Garamond"/>
              </a:rPr>
              <a:t>Во времена великого шведского натуралиста К. Линнея (1707-1778), попытавшегося создать одну из первых научно обоснованных классификаций собак, их первых   научно обоснованных классификаций собак, их насчитывали около сотни. Считается, что всего в мире существовало около 2000 пород, на сегодня их немногим более 400.Едва ли какой другой вид имеет такое разнообразие внешних форм, поведения и даже физиологических особенност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091 -0.06736 L -0.64288 -0.37176 E">
                                      <p:cBhvr>
                                        <p:cTn id="274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578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роды собак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Овчар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конце 19 века немецкая овчарка считалась плебейской собакой. Немецкая овчарка-это, прежде всего рабочая собака. И интеллект, и красота, и правильность сложения овчарки - все должно обеспечивать ее работоспособность. Немецкая овчарка замечательно красивая. Можно понять тех, кого она восхищает гармонией сложения и необычной красотой движений. Это и стройная и достаточно мощная собака. Заостренная морда с черной маской. Строгие стоячие уши. Гармоничные, плавные линии корпуса. Окрас должен быть ярким - черно – рыжим с черной маской на морде и черной спиной. Очень  красивая собака. И многих любителей она привлекает не только как рабочая собака, но и как собака - компаньон. Но все-таки основная работа современных немецких овчарок не пастьба. Они - розыскные собаки и пограничные, саперы и таможенники, поисковики - спасатели, поводыри слепых и охранники. Немецкая овчарка - собака, что называется, "выше среднего роста", ее рост 58-65 с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227640" y="394164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Лай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Если взглянем на список существующих пород собак, то увидим, как много среди  них охотничьих. А уж из старых пород с древней историей "охотников" - подавляющее большинство. И самые древние среди них - северные остроухие собаки лайки. Лайки - собаки универсальные, и к самой разной охоте они, как и их далёкие предки, способны почти безо всякой дрессировки. И, как в стародавние времена, они сопровождают охотников и помогают им в охотничьем промысл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Все лайки внешне похожи. Головы клином, морды острые, стоячие треугольные уши посажены высоко, лапы собраны в комок, хвосты загнуты на спину кольцом или серпом. Шерсть у лайки - как у волка: мягкий густой подшерсток сверху прикрыт прямой жестковатой и недлинной остью.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Ростом они могут быть и мелкими, и средними, но только не крупными. Большие собаки в лесу не нужны - теряют выносливость, и корма им нужно мног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А лайки должны быть неприхотливыми. Они очень энергичны, подвижны и выносливы. Это смелые и отважные собаки, очень ловкие и верткие. Охотятся лайки на птицу, на белку, на соболя. Лайка ищет добычу не только обонянием, очень важны слух и зрение. За десятки, а то и сотни метров слышит лайка шорох зверька в кронах деревьев. К подозрительному месту бежит, добычу высматривает и вынюхивает. А вот когда увидит ее, начинает облаивать, - отсюда и название " лайка". Дома лайка - сторож, в лесу - надежная помощница и верный друг. С лайкой охотятся и на крупного зверя - лося, кабана и даже медвед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368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372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376" dur="2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380" dur="2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33 E">
                                      <p:cBhvr>
                                        <p:cTn id="384" dur="2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95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08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3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18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23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28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Дворняж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ни непохожи друг на друга, потому что это не порода, никто не следит за их внешностью, никто не заботится об их стандартах . Они не участвуют в официальных собачьих выставках, не получают дипломов и медалей. Но они живут вместе с нами. И они нужны нам. Дворняжки прекрасно дрессируются, они очень привязываются к человеку и очень благо­дарны ему за малейшее проявление внимания и ласки, они умны и не менее благородны, чем настоящие собачьи аристо­краты. мы хотим, чтоб люди поняли: дворняжка — собака. И собака настоящая! Это тоже «достойный член человеческого общества», если «человеческое общество» не выбрасывает их за борт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7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77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2" dur="77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3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56000" y="493560"/>
            <a:ext cx="3725640" cy="6364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Роль собаки в жизни челове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у, а что касается всяких болезней, всякой заразы, которую якобы разносят собаки, то это -очень большое преувеличение. И, соблюдая элементар­ные правила гигиены, опасность заражения можно практически свести к нул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о опасность все-таки есть. Однако заразится лишь тот, кто предает собаку, -он заразится опаснейшей болезнью души. На­зывается эта болезнь -черст­вость, эгоизм, жестокость. Часто такие болезни бывают, неизле­чимы и дают очень тяжелые ос­лож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0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402920" y="404280"/>
            <a:ext cx="6372360" cy="60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Опомнись, вздрогни, человек!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Перед природой ты в долгу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славен будет пусть твой ве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Травой душистой на луг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трелью птиц веселой, звонко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шумным плеском родник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гроздями рябины тонко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синим глазом василька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свежим ароматом трав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И рощи шумом, и дубрав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1" dur="2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1" dur="20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6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2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35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4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5:47:29Z</dcterms:created>
  <dc:creator>XP GAME 2007</dc:creator>
  <dc:description/>
  <dc:language>en-US</dc:language>
  <cp:lastModifiedBy>XP GAME 2007</cp:lastModifiedBy>
  <dcterms:modified xsi:type="dcterms:W3CDTF">2009-01-26T17:16:30Z</dcterms:modified>
  <cp:revision>2</cp:revision>
  <dc:subject/>
  <dc:title>«Собаки- верные друзья человека»</dc:title>
</cp:coreProperties>
</file>